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283-05AD-43FD-BE4C-073C7A64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177-D544-4994-AB34-361655DE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8E8-8D82-4F4F-ADB3-E024B6F2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A72-86E4-4C82-914B-BE29C359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C0FF-2C17-4428-92AE-D014E3F3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0F2D-3233-4195-958C-B58EC3E8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86E-022A-4725-9B61-74C4FD54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FE7-A247-4772-9F10-6F4FD300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943-F22C-4C20-8E1B-3055DA1E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477-9E38-442D-AE19-C6E312CE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88B-818C-49F7-9704-583CFB7B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B13-EAC5-4EEA-872D-3FC21DD7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3640-A753-4C75-9C00-53F947FE25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ghs.penza@gmail.co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293"/>
                </a:solidFill>
                <a:latin typeface="Arial"/>
              </a:rPr>
              <a:t>Mr. Penza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ior Project Coordin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t Greenwich Public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eghs.penza@gmail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1-398-13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038840" cy="96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400"/>
            </a:b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* Mentor *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hat is the role of a Mentor?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ises student on field wo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off on field work lo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teacher” of skills used to create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s guide student in creation of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guide for discussion and reflection on the field work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* Field Work *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d as documented hours of work a student will complete with his/her mentor during his/her senior ye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be done with a Men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represent a learning stret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.W. Log required to document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 work process must equal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* Research Paper *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is dr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to eight pages in leng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have a connection to Senior Project Top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be taught/covered in Junior and Senior full-year English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written in student's junior year as well as senio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GR Coordinator is teacher/ assessor for students taking elective English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Connecting the Research Paper to Senior Project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Abstract Guide She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aragraph One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is your Research Paper thesi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mmarize the main points you use to support your thesi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kind of sources did you use to support your thesi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conclusions can you draw from your work writing your Research Paper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aragraph Two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plain how and why you became interested in your Research Paper topic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d you learn anything surprising while doing you research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d you change you point of view in the midst of the research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is the connection between the research paper and your senior projec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w was your paper related to your produc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aragraph Thre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be your learning stretch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w was your project a challenge for you and how did it “stretch” your skills and knowledg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types of problems did you have to solve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228600" y="13716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ll students will include in their Senior Project Portfolios an abstract (summary sheet)  of their Research Paper that conforms to the following Guide Shee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* Product *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s require students to apply the knowledge gained during the fieldwork ph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s must have a clear “learning stretc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s must be completed on the students’ own time, must be challenging, and must require at least fifteen hours of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ors may work with students  to develop their product during this phase of Senior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* Presentation *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ed to a panel of judges (teachers, community members, etc.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ht to twelve minutes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have a clear outline to fol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practiced after school in Room 1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student will explai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ion of Research Paper and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Stretch of Proje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ion of Produ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* Portfolio *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to Senior Project Panels before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ter of Introduction to Ju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ter of Int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or Information/Parental Acknowledgement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Paper Abstra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work Time Log signed by your men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Fieldwork Journal e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enior Project Exampl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b Sm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laying acoustic guitar, woodshop, football, karate, b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opic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coustic Guita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etter of Inte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uild an acoustic guit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ento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tt Brown (owns custom guitar sho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ield Work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b w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arn how to put together a custom guit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arn what types of woods and metals are best in making an acoustic guitar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arn how custom guitars are bought and sold from a small business 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search Pap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use of Mahogany as the top wood in an acoustic guitar creates the best overall soun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oduct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mpleted acoustic guitar with a price analysis that compares the price / benefits of making an acoustic guitar with the price/ benefits of buying one “off the shelf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hat should Juniors do NOW!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Pan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es change but the timelin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oesn’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to seniors about their S.P. experie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os &amp; don’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to Mr. Penz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at your possible S.P. inter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y to tailor your  junior research paper around the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ERY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garding your Research 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brics, drafts, teacher-corrected pieces, electronic copi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submitting your LOI e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Questions for Brainstorming Topics – S.P. &amp; R.P.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in the next five years what things do you hope to have accomplished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things would you like to be able to do bette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do you wish you had more time for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things would you like to learn more abou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st some experiences that you really wish you could ha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controversial issues do you really feel strongly about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is a profession you think about but have not seriously explored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is one thing you believe needs to be improved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classes have you taken and really liked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is one handcrafted item you wish you could own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do you wish would happen in your lif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goal have you avoided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do you complain about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do you like to get others to 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is special or unique about you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community group do you belong to / wish you belonged t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can’t you do, but would like to 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could earn $100.00 an hour doing anything, what would it b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How do I stay informed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id not know” is not an excus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stay informed about Senior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Mr. Penza direc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ior Project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by Room 243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edu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 appoin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hy Senior Project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RIDE says so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ior Project is part of the Proficiency Based Graduation Requirement mandated by the Department of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 Board of Reg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igh schools shall provide evidence of the manner in which they incorporate applied learning skills in communication, problem solving, critical thinking, research, and  reflection/evaluation across all content areas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ore Components of Senior Projec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1676160"/>
            <a:ext cx="6477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ic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ter of I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 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fol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* Topic Selection *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select a topic about which they are interes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est topics are those about which students have a real desire to learn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oject must represent a “learning stretch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may have previous skills or experience in the area which they are considering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fulfill Senior Project they will have to explore this subject in a genuinely new and challenging manner, not simply repeat what they already know or have previously lear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* Learning Stretch *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learning stretch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learning stretch is defined as the demonstration of knowledge and research over and beyond previously learned material.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A student may have been playing soccer all of his/her life but has never coached someone on how to play socce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* Letter of Intent *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Piece of Senior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of the final portfol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outlines his/her Senior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ed and assessed by the EGHS Facu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LOI Presentation Logistics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ill be built in to the school day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niors will present their Senior Project to a panel of three judges. At least one of the teachers on the panel will have had the student for a year in clas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very senior must present, regardless of whether  or not they are following the early  or regular presentation schedul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esentations will last two minutes with an additional two minutes given for judges questio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s will be a common task for English using the School Wide Oral Presentation Rubric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enior Project Component </a:t>
            </a:r>
            <a:br>
              <a:rPr sz="4400"/>
            </a:b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* Mentor *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ho can be a Mentor?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be at least 21 years of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be willing to give 15 hours of unpaid field work time with stu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not be a family member or rel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not be a current emplo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not be a teacher at EG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4:05:06Z</dcterms:created>
  <dc:creator>Mike Penza</dc:creator>
  <dc:description/>
  <dc:language>en-US</dc:language>
  <cp:lastModifiedBy>kizzo</cp:lastModifiedBy>
  <dcterms:modified xsi:type="dcterms:W3CDTF">2010-12-03T15:24:14Z</dcterms:modified>
  <cp:revision>34</cp:revision>
  <dc:subject/>
  <dc:title>Slide 1</dc:title>
</cp:coreProperties>
</file>